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0A6B-1F6A-43D4-A89B-8FA0F0C16B2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259E-AF3E-4CD8-8224-DD716376F4F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F6B8-454C-4F8C-9DB8-5B7CB7C5D56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3037-2AB7-457D-8BF3-7E3C3BAF298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E6B2C-9D73-4CBB-B4A8-33D288B95D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5B119-7A13-4BAD-93F8-A14DCAEB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98974-073B-4409-A8E1-81287CC2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5DFB5-939F-4AC4-BDBA-3349274C30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ED63F-D12C-48DC-8FE1-0C142DD4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227F8-A151-4E60-BCBA-9151AB01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26739-E9FB-49BA-B448-089A4F88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B9424-40FE-4537-93CB-091F1E1A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FEF49-F525-4F36-ACCB-5633BF06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D26F-DD51-47F4-B7A3-1EF49792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95785-D00A-4AA6-A7B5-31300DBD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C5AA-4C72-44C8-8A70-92018A02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5E9D-BA8B-43DC-A66F-A60455C842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四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静脉输液和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静脉输液的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与解释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身心状况、穿刺部位、解释输液目的、方法和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052280"/>
            <a:ext cx="3638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核对并检查药物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药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携用物至患者床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释核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挂输液瓶于架上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排气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029120" y="2349360"/>
            <a:ext cx="36385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穿刺和固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调滴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输液后整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类处理用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5080" y="1125000"/>
            <a:ext cx="81342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“三查七对”制度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无菌操作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药物配伍禁忌，药物应现配现用，不可久置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保护血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较粗、直、弹性好的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输液过程中应加强巡视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可自静脉输液的肢体抽取血液化验标本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留置针输液法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外周插入的中心静脉置管术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IC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管置入技术）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9280" y="2421000"/>
            <a:ext cx="39610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签字同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137120" y="241632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管维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外静脉穿刺置管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8000" y="191628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44520" y="5418000"/>
            <a:ext cx="8474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植入式静脉输液港（略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静脉输液速度的调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0680" y="103968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输液器滴系数计算调节输液速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2994120"/>
            <a:ext cx="79135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滴速调整原则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成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儿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；对年老、体弱、婴幼儿，心肺疾病患者，输入速度宜慢；滴注高渗溶液、含钾药物、升压药物等宜慢；严重脱水、心肺功能良好者，速度可适当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组 39"/>
          <p:cNvGrpSpPr/>
          <p:nvPr/>
        </p:nvGrpSpPr>
        <p:grpSpPr>
          <a:xfrm>
            <a:off x="900000" y="1790640"/>
            <a:ext cx="6768720" cy="1625040"/>
            <a:chOff x="900000" y="1790640"/>
            <a:chExt cx="6768720" cy="1625040"/>
          </a:xfrm>
        </p:grpSpPr>
        <p:grpSp>
          <p:nvGrpSpPr>
            <p:cNvPr id="149" name="Group 36"/>
            <p:cNvGrpSpPr/>
            <p:nvPr/>
          </p:nvGrpSpPr>
          <p:grpSpPr>
            <a:xfrm>
              <a:off x="900000" y="1790640"/>
              <a:ext cx="6768720" cy="1625040"/>
              <a:chOff x="900000" y="1790640"/>
              <a:chExt cx="6768720" cy="1625040"/>
            </a:xfrm>
          </p:grpSpPr>
          <p:sp>
            <p:nvSpPr>
              <p:cNvPr id="150" name="Rectangle 37"/>
              <p:cNvSpPr/>
              <p:nvPr/>
            </p:nvSpPr>
            <p:spPr>
              <a:xfrm>
                <a:off x="3562560" y="2582640"/>
                <a:ext cx="410616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每分钟滴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 60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n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Rectangle 38"/>
              <p:cNvSpPr/>
              <p:nvPr/>
            </p:nvSpPr>
            <p:spPr>
              <a:xfrm>
                <a:off x="3562560" y="1790640"/>
                <a:ext cx="4106160" cy="79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液体总量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l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滴系数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Rectangle 39"/>
              <p:cNvSpPr/>
              <p:nvPr/>
            </p:nvSpPr>
            <p:spPr>
              <a:xfrm>
                <a:off x="900000" y="2359080"/>
                <a:ext cx="3381480" cy="10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输液时间（小时）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3" name="Line 40"/>
            <p:cNvSpPr/>
            <p:nvPr/>
          </p:nvSpPr>
          <p:spPr>
            <a:xfrm>
              <a:off x="3562560" y="2582640"/>
              <a:ext cx="41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Rectangle 3"/>
          <p:cNvSpPr/>
          <p:nvPr/>
        </p:nvSpPr>
        <p:spPr>
          <a:xfrm>
            <a:off x="430200" y="5877000"/>
            <a:ext cx="84740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输液泵准确控制输液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液点滴不畅或不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斜面紧贴血管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整针头位置或适当变换肢体位置或在头皮针尾部垫棉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阻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力过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调高输液瓶的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痉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热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壶内液面自行下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静脉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输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过程中输入致热物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在输液过程中突然出现发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用具严格灭菌、输液过程中无菌操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热较轻的患者，可减慢或更换药液、输液器，注意保暖；严重者，须立即停止输液，并按高热护理方法对患者进行处理。剩余液体和输液管送检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76464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刺激性较强的溶液或静脉内放置刺激性较强的塑料管时间过长；或输液过程中未严格执行无菌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静脉走向出现条索状红线，局部组织红、肿、热、痛，有时伴有全身发热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感染，减少对血管壁的刺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已经出现静脉炎的部位，可抬高患肢，局部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酒精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硫酸镁行湿热敷或中药外敷；局部可用超短波理疗；如合并感染，应根据医嘱给予抗生素治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输液速度过快，或患者原有心肺功能不良者，在短时间内输入过多液体，使循环血容量急剧增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左心衰竭的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时要控制输液速度不宜过快，对老年人、小儿及心肺功能不良者尤应注意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停止输液 同急性左心衰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导管内空气未排净、导管连接不紧、有缝隙或在加压输液、输血时无人看守导致液体走空等；更换药液不及时，更换药液后未检查输液管内是否进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液时必须排净空气，及时更换药液，每次更换药液都要认真检查输液管内是否有空气，滴壶液面是否过低，发现异常及时予以调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左侧卧位、头高足低位，再者由于心脏不断搏动，可将空气混成泡沫，分次小量进入肺动脉内，以免发生肺栓塞。如果可能，也可通过中心静脉导管抽出空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9840" y="907920"/>
            <a:ext cx="8474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及血液制品的种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目的和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脉输血的适应证和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和相容性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体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血反应及预防和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血液及血液制品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9840" y="11728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血：新鲜血、库存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血：有形成分（红细胞、白细胞、血小板）、血浆成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和血浆蛋白、凝血制品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贫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抗体、补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浆蛋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凝血因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骨髓系统和网状内皮系统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善组织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患者需要再次输血，必须重新做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静脉输血的适应证和禁忌证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适应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原因引起的大出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贫血或低蛋白血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重感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凝血功能异常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肺水肿、肺栓塞、充血性心力衰竭、肾衰竭、恶性高血压、真性红细胞增多症及对输血有变态反应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液和静脉输血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静脉输液的常用溶液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用血制品的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补液的基本原则和静脉补钾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血三查八对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血型和相容性检查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是指红细胞膜上特异性抗原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O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h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叉相容配血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受血者与献血者之间有无不相容抗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6760" y="1196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八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后   在室温下放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输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   需与另一护士再次进行核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见静脉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 用物、患者、护士和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输血法（略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携用物至患者床边，与另一护士再次核对，向患者解释操作目的，询问是否排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液路按密闭式静脉输液法建立静脉通道，先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挂液轻轻旋转摇匀血液。戴手套，打开储血袋封口，常规消毒开口处塑料管，将输血器针头从生理盐水瓶上拔下，插入血袋的接口处，缓慢倒置血袋，挂于输液架上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节速度开始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调节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三查八对，签名，对患者及家属交待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中观察输液过程中严密观察患者病情变化及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连续输入两袋以上不同供血者的血液时，中间要输注少量生理盐水隔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拔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后整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无菌操作和查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血库中的血液取出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内给患者输入，避免久置使血液变质或被污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血前后、输注两个以上供血者的血液之间应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输血开始时速度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后如无反应，可根据情况调节至合适的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过程中要加强巡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次输血或输入多个人的血时，输血前按医嘱酌情给抗过敏药。大量输库存血时应注意补充钙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时输多种血液时一般应先输成分血再输全血，以保证成分血新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完血的血袋应低温保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备查。如发生输血反应还应保留余血以备检查分析，查找原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用直接输血法从供血者血管内抽血不可过急过快，并注意观察其面色、血压等变化，询问有无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六、自体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预存自体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稀释血液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中失血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七、成分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6760" y="1412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分输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onent transfus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就是输入血液的某些成分。是使用血液分离技术，使血液分离成各种成分，再根据患者的病情的需要，输入一种或几种成分。有一血多用、减少输血不良反应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滴速调整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时的常见故障及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液反应的种类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输血前准备工作和静脉输血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直接输血法、自体输血法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血反应的类型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致热原、细菌污染、免疫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有寒战，随后体温迅速上升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1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伴有头痛、恶心、呕吐、出汗，持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后逐渐缓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反应轻者，减慢滴速即可使症状减轻；②严重者停止输血，换用生理盐水保留静脉通路；③必要时按医嘱给予解热镇痛药和抗过敏药；④将余血、血袋及输血器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过敏体质、多次输血、供血者体内的变态反应性抗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敏反应大多发生在输血后期或即将结束时，表现轻重不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轻度的局部皮肤表现，不须特殊处理；②严重者立即停止输血，换生理盐水保留静脉通路，给予抗过敏药物和肾上腺皮质激素；③呼吸困难者给予吸氧；④循环衰竭者应给予抗休克治疗；⑤严密观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外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异型血或变质血、血中加入高渗或低渗溶液或能影响血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化的药物，致使红细胞大量破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停止输血并通知医生，保留余血，采集患者血标本重新做血型鉴定和交叉配血试验；②用生理盐水维持静脉通道；③静脉输注碳酸氢钠；④双侧腰部封闭，并用热水袋敷双侧肾区；⑤严密观察；⑥出现休克症状者进行抗休克治疗；⑦心理支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6760" y="996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负荷过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血倾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枸橼酸中毒、低血钙、高血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疾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引起静脉炎时局部湿热敷宜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生理盐水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情况下补液的原则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糖后盐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晶后胶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慢后快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宁多勿少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匀速补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输血后出现皮肤瘙痒、眼睑及口唇水肿、呼吸困难，该患者可能发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血反应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反应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栓塞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时如何调节滴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始宜慢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，若无不良反应，调节至需要滴速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要患者能耐受，越快越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慢性心力衰竭患者，输液时突然出现呼吸困难，咳粉红色泡沫痰，神情紧张，听诊两肺布满湿啰音。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发生了什么情况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什么原因可引起此种情况法发生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密闭式输液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静脉输血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静脉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0522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的目的与常用溶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围静脉输液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静脉穿刺置管输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速度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时常见故障及排除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反应与防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的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和电解质，以维持和调节酸碱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脱水剂，提高血浆的渗透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溶液的种类及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体溶液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rystal solu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维持细胞内外水分相对平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胶体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olloid solu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提高血管内胶体渗透压，维持有效血容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盐后糖、先晶后胶、先快后慢、宁少勿多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钾时应注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不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则：不宜过浓；不宜过快；不宜过多；不宜过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19:18Z</dcterms:modified>
  <cp:revision>313</cp:revision>
  <dc:subject/>
  <dc:title>内科护理学</dc:title>
</cp:coreProperties>
</file>